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810-B86D-496A-9357-B1611220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0A5-5459-49EC-809D-45B9CCF8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161-69BE-44FA-A342-AC07C014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E89-D10D-4E66-B4D1-0E8F1C95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B764-2A43-4DF1-9CA3-1369F54F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601D-B314-4B31-BF0A-085925F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9EF-7363-40F9-8BE1-4B91886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9978-45C6-415D-957A-03FFCA3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6352-0A2B-4C89-BAD9-48298A8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6B97-9BDA-4F6D-B5FB-317027BE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9B50-A19D-431C-9165-E8073A0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AEC-9615-4AD0-A570-51EB80DC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E63C-E9EA-49B3-B55C-394F709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7FD3-7C9C-4AAE-A0DF-9F50C943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0171-2074-46D1-A9E6-06E542D7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5FA8-0BD3-4AED-8C31-EC9EDF97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4ADB-0862-4452-AC5B-F461C530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446-B86D-485F-8B8C-0EA0FAB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B56-21A2-4AA0-B654-E8E39303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AAE-6964-4371-BC84-7BACC6BE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21E-36ED-42C9-93CA-49855B13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157-B6DE-43FE-B23E-3816502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FB4-3A5E-4DE3-94C7-AC6E95CA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307-8ABA-475F-873E-023022B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D821-7F8A-481C-8A9E-B962C90C37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DC7B-071E-4154-BDF5-FAE51ECE3F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ZFMmNqCvbc&amp;NR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Ea8j98eR9g&amp;feature=related" TargetMode="External"/><Relationship Id="rId2" Type="http://schemas.openxmlformats.org/officeDocument/2006/relationships/hyperlink" Target="http://www.youtube.com/watch?v=LrZ3Iw5723c&amp;feature=related" TargetMode="Externa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UG9ur5Azko&amp;NR=1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              </a:t>
            </a:r>
            <a:r>
              <a:rPr b="0" lang="en-US" sz="2400" spc="-1" strike="noStrike" u="sng">
                <a:solidFill>
                  <a:srgbClr val="999900"/>
                </a:solidFill>
                <a:uFillTx/>
                <a:latin typeface="Times New Roman"/>
                <a:hlinkClick r:id="rId1"/>
              </a:rPr>
              <a:t>Kids watch closel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640" y="1828800"/>
            <a:ext cx="3846600" cy="403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aring a safety belt increases your chance of surviving a crash by </a:t>
            </a: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40%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f everybody in New Zealand wore safety belts all the time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-around 35 lives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-250-300 injurie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-millions of dollar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could be saved every yea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thal Flying Object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ecured items in your car can be lethal in a sudden stop or cras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rces behind any object can become much greater than when the object is still. This can be related greatly to Newton's first law of motion (Inerti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that are not buckled into the car need to be placed in the boo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on wagons are best to be fitted with a cargo barrier, or have a cargo net secured to cargo clips placed over the objec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Julie knew her killer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Irish Seatbelt a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553080" y="3276720"/>
            <a:ext cx="19814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3853080" cy="5394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92440" y="473040"/>
            <a:ext cx="3833640" cy="5394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90640" y="473040"/>
            <a:ext cx="3838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129040" cy="3124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298600" cy="3205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505320" y="2133720"/>
            <a:ext cx="2066760" cy="3200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886200" cy="3489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 crash, if you're in the front and you're not wearing a safety belt, you may be thrown into the windscreen or onto the roa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the back seat, you might be thrown onto the front seats, hit the roof, or smash your face into the back of the people sitting in fro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What might happe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504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Safety belts are designed for adult bodie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ntil a child can safely and comfortably wear an adult safety belt (ie, the belt crosses their pelvis, not their stomach), they must use an approved child restraint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00400" cy="2376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057400" cy="190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981080" cy="1981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4960" y="1828800"/>
            <a:ext cx="5181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Infant restraint: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irth to 9 k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p to 6 month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Convertible (baby to child) restraint: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irth to 18 k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p to 4 year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20968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209680" cy="190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657600" y="1981080"/>
            <a:ext cx="510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ont-facing child restraint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-18 k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months to 4 years.</a:t>
            </a:r>
            <a:r>
              <a:rPr b="0" lang="en-US" sz="2800" spc="-1" strike="noStrike">
                <a:solidFill>
                  <a:srgbClr val="ff0000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oster seat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-26 k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years to 7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Child harness: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4-32 kg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-approx. 4 to 7 yea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Drivers and passengers 15 years and ove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must wear a safety belt if there's one availabl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1734840" cy="190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174312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2971800" cy="3048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3009960" cy="3048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y they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fe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bel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afety belts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stop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the driver and passengers being thrown from the car in a crash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y also allow the wearer to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‘ride out’ the crash,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moving in the same direction and at the same time as the car, minimizing the chance of collision with the interior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earing a safety belt can halve the risk of being injured or killed in an crash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3581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Techn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ebbing elastici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to stretch during a cra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tractor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 the wearer with a good fit, and keep the belt out of the way when it’s not in u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lock automatically during a cra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tensione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device that removes any slack from a seat belt before it is ‘loaded’ with the force of the wearer’s weight during a cra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oad limiti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y that works to ensure larger and heavier occupants get sufficient protection from the seat belt in a crash. Works in conjunction with the pretensioner to either ‘pay out’ more of the belt webbing, or slightly alter the way the retractor work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07:34:42Z</dcterms:created>
  <dc:creator>Educating NZ</dc:creator>
  <dc:description/>
  <dc:language>en-US</dc:language>
  <cp:lastModifiedBy>Educating NZ</cp:lastModifiedBy>
  <dcterms:modified xsi:type="dcterms:W3CDTF">2008-06-23T10:31:32Z</dcterms:modified>
  <cp:revision>13</cp:revision>
  <dc:subject/>
  <dc:title>Belt Up!</dc:title>
</cp:coreProperties>
</file>